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A76-F8EA-42F0-AC57-6AC3AE54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3CA-C8AA-4F1F-BC7B-15E7D8B3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D1E-9030-4818-8D9C-6F2C8EE2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C967-0879-4AF3-A73D-5FA3504F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5D22-977B-4210-8B63-E9E58503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429-CEA5-4401-82DD-FE18E421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D0A-1CE1-432C-9344-541D13CD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8168-D7FB-4F77-AC17-C7D03E9F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0F1-80F6-48D1-86EF-392696EE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070-CD81-4CE3-BB9A-EA081371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C23-F95E-404F-9A66-EC84BB38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80D-9595-4E46-ABCD-CAA26772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8BDE-98D8-430C-B417-FD462C18E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n.wikipedia.org/w/index.php?title=Kingsgrove_High_School&amp;action=edit&amp;redlink=1" TargetMode="External"/><Relationship Id="rId3" Type="http://schemas.openxmlformats.org/officeDocument/2006/relationships/hyperlink" Target="http://en.wikipedia.org/w/index.php?title=Kingsgrove_High_School&amp;action=edit&amp;redlink=1" TargetMode="External"/><Relationship Id="rId4" Type="http://schemas.openxmlformats.org/officeDocument/2006/relationships/hyperlink" Target="http://en.wikipedia.org/w/index.php?title=Kingsgrove_High_School&amp;action=edit&amp;redlink=1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00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doni MT Black"/>
              </a:rPr>
              <a:t>Anthony Mund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16360" y="2457360"/>
            <a:ext cx="6227640" cy="4400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25556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21 May 1975 in NS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named Choc; The 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ed at Kingsgrove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 four children with wife Danielle Mund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x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ony is an ex world champion boxer    in the super middleweight di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ly Award as Male Sportsperson of the Year in 2003, 2006,2007 for box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450200" y="0"/>
            <a:ext cx="1693800" cy="2585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4076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700360" y="4221000"/>
            <a:ext cx="3809880" cy="2476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842160" y="3573360"/>
            <a:ext cx="23018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Rug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His first major league was the Brisbane bron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Anthony Mundine left rugby league half way through the 2000’s seas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2:14:04Z</dcterms:created>
  <dc:creator>Reservoir District Secondary College</dc:creator>
  <dc:description/>
  <dc:language>en-US</dc:language>
  <cp:lastModifiedBy>Reservoir District Secondary College</cp:lastModifiedBy>
  <dcterms:modified xsi:type="dcterms:W3CDTF">2008-06-27T03:54:20Z</dcterms:modified>
  <cp:revision>3</cp:revision>
  <dc:subject/>
  <dc:title>Anthony Mundine </dc:title>
</cp:coreProperties>
</file>